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830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094360" y="403092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6800" y="129528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55160" y="129528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46800" y="403092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55160" y="403092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97040" y="132840"/>
            <a:ext cx="834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94360" y="403092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830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830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94360" y="403092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46800" y="129528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55160" y="129528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46800" y="403092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55160" y="4030920"/>
            <a:ext cx="26744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97040" y="132840"/>
            <a:ext cx="834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94360" y="403092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94360" y="1295280"/>
            <a:ext cx="405324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830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hyperlink" Target="http://www.usfq.edu.ec/" TargetMode="External"/><Relationship Id="rId8" Type="http://schemas.openxmlformats.org/officeDocument/2006/relationships/image" Target="../media/image4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228600"/>
            <a:ext cx="868860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-26820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-26820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206360" indent="-349200">
              <a:spcBef>
                <a:spcPts val="7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68600" indent="-3477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132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132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132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830160" y="1166760"/>
            <a:ext cx="804384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0160" y="1166760"/>
            <a:ext cx="448956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83080" y="1166760"/>
            <a:ext cx="795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240160" y="1166760"/>
            <a:ext cx="79560" cy="0"/>
          </a:xfrm>
          <a:prstGeom prst="line">
            <a:avLst/>
          </a:prstGeom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526000" y="1166760"/>
            <a:ext cx="795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668920" y="1166760"/>
            <a:ext cx="795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811840" y="1166760"/>
            <a:ext cx="7920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954760" y="1166760"/>
            <a:ext cx="7920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097680" y="1166760"/>
            <a:ext cx="7920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240600" y="1166760"/>
            <a:ext cx="7920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383160" y="1166760"/>
            <a:ext cx="795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526080" y="1166760"/>
            <a:ext cx="795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669000" y="1166760"/>
            <a:ext cx="795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811920" y="1166760"/>
            <a:ext cx="795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954840" y="1166760"/>
            <a:ext cx="7920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7097760" y="1166760"/>
            <a:ext cx="7920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7240680" y="1166760"/>
            <a:ext cx="7920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7383600" y="1166760"/>
            <a:ext cx="7920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7526160" y="1166760"/>
            <a:ext cx="795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7669080" y="1166760"/>
            <a:ext cx="7956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7600" y="201600"/>
            <a:ext cx="8920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inispir" descr=""/>
          <p:cNvPicPr/>
          <p:nvPr/>
        </p:nvPicPr>
        <p:blipFill>
          <a:blip r:embed="rId3"/>
          <a:stretch/>
        </p:blipFill>
        <p:spPr>
          <a:xfrm>
            <a:off x="-38088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6000" y="4130640"/>
            <a:ext cx="11062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-38088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85840" y="2174400"/>
            <a:ext cx="490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789120" y="1243080"/>
            <a:ext cx="3097080" cy="520560"/>
          </a:xfrm>
          <a:prstGeom prst="rect">
            <a:avLst/>
          </a:prstGeom>
          <a:solidFill>
            <a:srgbClr val="cbbd83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694b6"/>
                </a:solidFill>
                <a:latin typeface="Times New Roman"/>
              </a:rPr>
              <a:t>Capítulo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71800" y="3533760"/>
            <a:ext cx="4915080" cy="9720"/>
          </a:xfrm>
          <a:prstGeom prst="line">
            <a:avLst/>
          </a:prstGeom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11800" y="3471840"/>
            <a:ext cx="12564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61240" y="3471840"/>
            <a:ext cx="12528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59480" y="3471840"/>
            <a:ext cx="12564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6440" y="3471840"/>
            <a:ext cx="12564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5880" y="3471840"/>
            <a:ext cx="12528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02520" y="3471840"/>
            <a:ext cx="12528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51600" y="3471840"/>
            <a:ext cx="12564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50200" y="3471840"/>
            <a:ext cx="12528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7160" y="3471840"/>
            <a:ext cx="12528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18200" y="3471840"/>
            <a:ext cx="12528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70520" y="3471840"/>
            <a:ext cx="125280" cy="12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2240" y="62928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Galo Valencia 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18800" y="628812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U.S.F.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CNA" descr=""/>
          <p:cNvPicPr/>
          <p:nvPr/>
        </p:nvPicPr>
        <p:blipFill>
          <a:blip r:embed="rId6"/>
          <a:stretch/>
        </p:blipFill>
        <p:spPr>
          <a:xfrm>
            <a:off x="5867280" y="5105520"/>
            <a:ext cx="1189080" cy="960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grpSp>
        <p:nvGrpSpPr>
          <p:cNvPr id="82" name=""/>
          <p:cNvGrpSpPr/>
          <p:nvPr/>
        </p:nvGrpSpPr>
        <p:grpSpPr>
          <a:xfrm>
            <a:off x="777960" y="203040"/>
            <a:ext cx="3127320" cy="1005120"/>
            <a:chOff x="777960" y="203040"/>
            <a:chExt cx="3127320" cy="1005120"/>
          </a:xfrm>
        </p:grpSpPr>
        <p:pic>
          <p:nvPicPr>
            <p:cNvPr id="83" name="Usfq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777960" y="203040"/>
              <a:ext cx="2129760" cy="1005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4" name=""/>
            <p:cNvGraphicFramePr/>
            <p:nvPr/>
          </p:nvGraphicFramePr>
          <p:xfrm>
            <a:off x="2901600" y="203040"/>
            <a:ext cx="1003680" cy="1005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01600" y="203040"/>
                      <a:ext cx="1003680" cy="10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6" name="Cisco" descr=""/>
          <p:cNvPicPr/>
          <p:nvPr/>
        </p:nvPicPr>
        <p:blipFill>
          <a:blip r:embed="rId11"/>
          <a:stretch/>
        </p:blipFill>
        <p:spPr>
          <a:xfrm>
            <a:off x="905040" y="2438280"/>
            <a:ext cx="2828880" cy="23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5716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2084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8272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78272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78272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30280" y="2174400"/>
            <a:ext cx="46594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3399"/>
                </a:solidFill>
                <a:latin typeface="Tahoma"/>
              </a:rPr>
              <a:t>7 Cosas que un Estudiante Debe Conocer sobre SubRed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893760" y="3774960"/>
            <a:ext cx="484668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Galo Valencia P.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660066"/>
                </a:solidFill>
                <a:latin typeface="Tahoma"/>
              </a:rPr>
              <a:t>Cuatro 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3399"/>
                </a:solidFill>
                <a:latin typeface="Tahoma"/>
              </a:rPr>
              <a:t># subredes teóricas  =           </a:t>
            </a:r>
            <a:r>
              <a:rPr b="1" sz="4000" spc="-1" strike="noStrike">
                <a:solidFill>
                  <a:srgbClr val="ff6600"/>
                </a:solidFill>
                <a:latin typeface="Tahoma"/>
              </a:rPr>
              <a:t>2 ^ (# bits prestado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3399"/>
                </a:solidFill>
                <a:latin typeface="Tahoma"/>
              </a:rPr>
              <a:t># subredes utilizables=        </a:t>
            </a:r>
            <a:r>
              <a:rPr b="1" sz="4000" spc="-1" strike="noStrike">
                <a:solidFill>
                  <a:srgbClr val="ff6600"/>
                </a:solidFill>
                <a:latin typeface="Tahoma"/>
              </a:rPr>
              <a:t>[2 ^ (bits prestados) ] –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660066"/>
                </a:solidFill>
                <a:latin typeface="Tahoma"/>
              </a:rPr>
              <a:t>Cuatro 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3399"/>
                </a:solidFill>
                <a:latin typeface="Tahoma"/>
              </a:rPr>
              <a:t># hosts teóricos x subred= </a:t>
            </a:r>
            <a:r>
              <a:rPr b="1" sz="4000" spc="-1" strike="noStrike">
                <a:solidFill>
                  <a:srgbClr val="ff6600"/>
                </a:solidFill>
                <a:latin typeface="Tahoma"/>
              </a:rPr>
              <a:t>2^ (# bits restantes*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6699"/>
                </a:solidFill>
                <a:latin typeface="Tahoma"/>
              </a:rPr>
              <a:t>*bits restantes = total bits en el campo de host – bits pres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3399"/>
                </a:solidFill>
                <a:latin typeface="Tahoma"/>
              </a:rPr>
              <a:t># hosts utilizables x subred= </a:t>
            </a:r>
            <a:r>
              <a:rPr b="1" sz="4000" spc="-1" strike="noStrike">
                <a:solidFill>
                  <a:srgbClr val="ff6600"/>
                </a:solidFill>
                <a:latin typeface="Tahoma"/>
              </a:rPr>
              <a:t>[2 ^ (# bits restantes)] – 2</a:t>
            </a:r>
            <a:r>
              <a:rPr b="0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660066"/>
                </a:solidFill>
                <a:latin typeface="Tahoma"/>
              </a:rPr>
              <a:t>Tres 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33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3399"/>
                </a:solidFill>
                <a:latin typeface="Arial Narrow"/>
              </a:rPr>
              <a:t>Dirección/Identificador de red(subred)* </a:t>
            </a:r>
            <a:r>
              <a:rPr b="0" sz="4000" spc="-1" strike="noStrike">
                <a:solidFill>
                  <a:srgbClr val="003399"/>
                </a:solidFill>
                <a:latin typeface="Arial Narrow"/>
              </a:rPr>
              <a:t>= </a:t>
            </a:r>
            <a:r>
              <a:rPr b="1" sz="4000" spc="-1" strike="noStrike">
                <a:solidFill>
                  <a:srgbClr val="ff6600"/>
                </a:solidFill>
                <a:latin typeface="Arial Narrow"/>
              </a:rPr>
              <a:t>bits de red igual al número de licencia (Dirección IP) y bits de host son todos ceros (0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33"/>
              </a:buClr>
              <a:buFont typeface="Monotype Sort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3399"/>
                </a:solidFill>
                <a:latin typeface="Arial Narrow"/>
              </a:rPr>
              <a:t>Broadcast de red(subred)*</a:t>
            </a:r>
            <a:r>
              <a:rPr b="0" sz="4000" spc="-1" strike="noStrike">
                <a:solidFill>
                  <a:srgbClr val="003399"/>
                </a:solidFill>
                <a:latin typeface="Arial Narrow"/>
              </a:rPr>
              <a:t>  = </a:t>
            </a:r>
            <a:r>
              <a:rPr b="1" sz="4000" spc="-1" strike="noStrike">
                <a:solidFill>
                  <a:srgbClr val="ff6600"/>
                </a:solidFill>
                <a:latin typeface="Arial Narrow"/>
              </a:rPr>
              <a:t>bits de red igual al número de licencia (Dirección IP) y bits de host son todos unos (1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660066"/>
                </a:solidFill>
                <a:latin typeface="Tahoma"/>
              </a:rPr>
              <a:t>Tres 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33"/>
              </a:buClr>
              <a:buFont typeface="Monotype Sort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3399"/>
                </a:solidFill>
                <a:latin typeface="Arial Narrow"/>
              </a:rPr>
              <a:t>Máscara de Subred</a:t>
            </a:r>
            <a:r>
              <a:rPr b="0" sz="4000" spc="-1" strike="noStrike">
                <a:solidFill>
                  <a:srgbClr val="003399"/>
                </a:solidFill>
                <a:latin typeface="Arial Narrow"/>
              </a:rPr>
              <a:t> =  </a:t>
            </a:r>
            <a:r>
              <a:rPr b="1" sz="4000" spc="-1" strike="noStrike">
                <a:solidFill>
                  <a:srgbClr val="ff6600"/>
                </a:solidFill>
                <a:latin typeface="Arial Narrow"/>
              </a:rPr>
              <a:t>bits de red y subred (prestados) son todos unos (1) y bits de hosts son todos ceros (0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6699"/>
                </a:solidFill>
                <a:latin typeface="Arial Narrow"/>
              </a:rPr>
              <a:t>*Para las direcciones y broadcast de subredes, los bits de la subred (prestados) son tratados como bits de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336699"/>
                </a:solidFill>
                <a:latin typeface="Arial Narrow"/>
              </a:rPr>
              <a:t>Recuerde los “bits prestados” de la parte del campo de hosts vienen a ser tratados como parte del campo de red (network field</a:t>
            </a:r>
            <a:r>
              <a:rPr b="0" sz="2800" spc="-1" strike="noStrike">
                <a:solidFill>
                  <a:srgbClr val="336699"/>
                </a:solidFill>
                <a:latin typeface="Arial Narrow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660066"/>
                </a:solidFill>
                <a:latin typeface="Tahoma"/>
              </a:rPr>
              <a:t>Cuatro 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# subredes teóricas  = 2 ^ (# bits prestad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# subredes utilizables= [2 ^ (bits prestados) ] –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# hosts teóricos x subred= 2^ (# bits restantes*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*bits restantes = total bits en el campo de host – bits pres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ahoma"/>
              </a:rPr>
              <a:t># hosts utilizables x subred= [2 ^ (# bits restantes)] – 2</a:t>
            </a:r>
            <a:r>
              <a:rPr b="0" sz="2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7040" y="132840"/>
            <a:ext cx="834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660066"/>
                </a:solidFill>
                <a:latin typeface="Tahoma"/>
              </a:rPr>
              <a:t>Tres Defin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 Narrow"/>
              </a:rPr>
              <a:t>Dirección/Identificador de red(subred)* </a:t>
            </a:r>
            <a:r>
              <a:rPr b="0" sz="2800" spc="-1" strike="noStrike">
                <a:solidFill>
                  <a:srgbClr val="000000"/>
                </a:solidFill>
                <a:latin typeface="Arial Narrow"/>
              </a:rPr>
              <a:t>= bits de red igual al número de licencia (Dirección IP) y bits de host son todos ceros (0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 Narrow"/>
              </a:rPr>
              <a:t>Broadcast de red(subred)*</a:t>
            </a:r>
            <a:r>
              <a:rPr b="0" sz="2800" spc="-1" strike="noStrike">
                <a:solidFill>
                  <a:srgbClr val="000000"/>
                </a:solidFill>
                <a:latin typeface="Arial Narrow"/>
              </a:rPr>
              <a:t>  = bits de red igual al número de licencia (Dirección IP) y bits de host son todos unos (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 Narrow"/>
              </a:rPr>
              <a:t>Máscara de Subred</a:t>
            </a:r>
            <a:r>
              <a:rPr b="0" sz="2800" spc="-1" strike="noStrike">
                <a:solidFill>
                  <a:srgbClr val="000000"/>
                </a:solidFill>
                <a:latin typeface="Arial Narrow"/>
              </a:rPr>
              <a:t> =  bits de red y subred (prestados) son todos unos (1) y bits de hosts son todos ceros (0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 Narrow"/>
              </a:rPr>
              <a:t>*Para las direcciones y broadcast de subredes, los bits de la subred (prestados) son tratados como bits de red.  Recuerde los “bits prestados” de la parte del campo de hosts vienen a ser tratados como parte del campo de red (network field</a:t>
            </a:r>
            <a:r>
              <a:rPr b="0" sz="26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23:46:23Z</dcterms:created>
  <dc:creator>Galo Valencia P.</dc:creator>
  <dc:description/>
  <dc:language>en-US</dc:language>
  <cp:lastModifiedBy>Galo Valencia</cp:lastModifiedBy>
  <dcterms:modified xsi:type="dcterms:W3CDTF">2001-11-01T23:04:36Z</dcterms:modified>
  <cp:revision>3</cp:revision>
  <dc:subject/>
  <dc:title>7 Cosas que un Estudiante Debe Conocer sobre SubRedes</dc:title>
</cp:coreProperties>
</file>